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81F-2836-4A16-99E5-14645ED3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73E-6336-40A1-84F7-D35FBE48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D15-96E6-47E8-9DD0-67A8EC45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C02-9300-415B-B4DA-7056E54C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CCA3-7E96-4DC6-B640-88F76CD2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2BF-D6DF-47F8-946F-FD4E35D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95CE-FA6B-4F12-B88B-51829AD4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E7A7-AF67-446B-9857-30A11129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A9C-E669-45DF-B7D7-E740C8E3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A566-36C6-40DF-930E-CD6398CE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A1A8-1018-4408-A860-222C7FD2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169-1C37-4A62-8A34-AB625AD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CB6-E01A-4C6B-B2D3-4931D89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CAA-1E0A-4C14-B818-5246FCA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E951-E497-4076-A20F-82746F6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671-A129-4308-8C5E-4BC5749E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43C0-8A26-43CD-965D-06FD0EF6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835-BCAA-4E0B-95C9-35B37FC8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0EC-9895-4895-8A6D-45B69F3F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0F5-F080-4E3A-9E87-32EE4B15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75A-42E1-4B88-8A22-3D1EA70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A2C-0FDF-4EC3-AE8C-DD865E4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83F-3462-4FEA-8559-69AAB7E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6CB-CBB4-47E2-9BD0-4989837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D12B-81E9-4E30-B6DA-9AD9EC78E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55A5-F806-4490-917C-63B042A5D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202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ИНЦИПИ ОДРЕЂИВАЊА 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НЕВНИХ ЕНЕРГЕТСКИХ ПОТРЕ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52280" y="1522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акултет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дицинск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новне струковне студ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ИЈЕ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5734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КАТЕДРА ЗА ФИЗИОЛОГИЈУ И ДИЈЕТЕТИ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3281400" cy="296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8600" y="1125360"/>
          <a:ext cx="8915400" cy="4494240"/>
        </p:xfrm>
        <a:graphic>
          <a:graphicData uri="http://schemas.openxmlformats.org/drawingml/2006/table">
            <a:tbl>
              <a:tblPr/>
              <a:tblGrid>
                <a:gridCol w="2666880"/>
                <a:gridCol w="3276720"/>
                <a:gridCol w="1752480"/>
                <a:gridCol w="121932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ИЈСК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OE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ЦИЈЕН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НЉИВИХ МА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ЈА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g (kcal-k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cal-kJ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L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ЉЕНИ ХИД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.1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9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.7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НЧЕВ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 kcal (17.1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 kcal (22.2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.3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ШОВИТА ИЗБАЛАНСИРАНА ИСХ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25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.2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НЕВНИ ЕНЕРГЕТСКИ ПРОМ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kcal) =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k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/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vol. </a:t>
            </a:r>
            <a:r>
              <a:rPr b="1" lang="sr-Latn-CS" sz="4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sr-Latn-C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L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sr-Latn-C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ЂИВАЊЕ УКУПНИХ ЕНЕРГЕТСКИХ ПОТРЕБ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ЕТ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сновне метаболичке потреб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(Basal Metabolic Rate – BMR)</a:t>
            </a:r>
            <a:r>
              <a:rPr b="1" lang="sr-C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sr-Latn-CS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нергетске потребе у мировању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(Resting Metabolic Rate – R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одат енергетски пром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нергетс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рмич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ране или специфично дејство хране (СД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(Thermic Effect of Food – TE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ављање физичке актив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560" y="691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хране уносимо у организам бројне материје које у својој основи представљају енергетск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НЧЕВ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им метаболисањем хранљивих материја у организму настај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зо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значајн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ина енергије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42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 материје и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зам – утрошак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болизам – ослобађање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713880"/>
            <a:ext cx="85726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купне количине ослобођене хемијске енерг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5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ах прелази у топло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7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ретвара у елементе фосфагеног система 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енергетски богатих једињења: 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еатин-фосф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се депонује у виду енергетских резерви (гликоген, триглицериди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коначног преласка метаболич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 у топлот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 метаболиз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осно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нергетски промет у организму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цењује се на основу количине ослобођене топлоте и изражава се у топлотним јединиц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КОЈЕ СЕ КОРИСТЕ У МЕРЕЊУ ЕНЕРГЕТСКОГ МЕТАБОЛ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227628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и мерни систе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) – Džul (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одговара енергији утрошеној за померање једног килограма за један метар снагом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чешће користи калорија -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која представља количину топлотне енергије потребну да се 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4e5b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cal = 1000 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4e5b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cal = 4.184 k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ЈСКИ КОЕФИЦИЈЕНТ ХРАНЉИВИХ МАТЕРИЈ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м угљених хидр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kcal (17.1k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м липи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3 kcal (38.9k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м проте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400" spc="-1" strike="noStrike" baseline="30000">
                <a:solidFill>
                  <a:srgbClr val="cc3300"/>
                </a:solidFill>
                <a:latin typeface="Wingdings 2"/>
                <a:ea typeface="Wingdings 2"/>
              </a:rPr>
              <a:t>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kcal (17.1 kJ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3 kcal (22.2k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baseline="30000">
                <a:solidFill>
                  <a:srgbClr val="cc3300"/>
                </a:solidFill>
                <a:latin typeface="Wingdings 2"/>
                <a:ea typeface="Wingdings 2"/>
              </a:rPr>
              <a:t></a:t>
            </a:r>
            <a:r>
              <a:rPr b="1" lang="sr-C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се у људском организму не разлажу до коначних продуката (већ само до уре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ЕНЕРГЕТСКЕ ПОТРОШЊЕ У ОРГАНИЗ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2438280"/>
            <a:ext cx="854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ПЛОТНИ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ВИВАЛЕНТ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K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ЕОНИК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ина топлоте ослобођена потпуном оксидацијом неке материје при утрошку 1 литра кисео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kcal (21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 kcal (19.7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нчев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6 kcal (19.3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шовит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ну исхра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825 kcal (20.2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КОЛИЧНИ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00600" y="12189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Q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5880" y="990720"/>
            <a:ext cx="2438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ol. CO</a:t>
            </a:r>
            <a:r>
              <a:rPr b="1" lang="sr-Latn-CS" sz="36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. O</a:t>
            </a:r>
            <a:r>
              <a:rPr b="1" lang="sr-Latn-C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09480" y="2362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ДНОСТИ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3124080"/>
            <a:ext cx="854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нчев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ита, избалансирана исхр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8:38:47Z</dcterms:created>
  <dc:creator>Maja</dc:creator>
  <dc:description/>
  <dc:language>en-US</dc:language>
  <cp:lastModifiedBy>XP</cp:lastModifiedBy>
  <dcterms:modified xsi:type="dcterms:W3CDTF">2014-02-07T09:04:13Z</dcterms:modified>
  <cp:revision>52</cp:revision>
  <dc:subject/>
  <dc:title>Енергетски метаболизам и физиологија исхране</dc:title>
</cp:coreProperties>
</file>