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0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5E6-C41E-4C9D-A632-28F7DD51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7F51-63A5-490F-9AD0-44990B1F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0EF2-2611-43D9-BA44-7A1B4BA5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952E-1C6B-426F-AFA4-B8CAC480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D66E-F900-486B-8B1A-4DADF143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EF98-526F-442B-84ED-21447EE0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AEC2-3624-4194-BE8D-2DE9207C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B1B7-6657-485D-A481-087CD235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128E-FA2A-40AD-86F6-F727F6FC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61A4-67F3-4BEA-9755-FD8DADF3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8A66-8B1D-49B2-85F6-D2BCE750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0F2-3423-4B38-9DDE-32521EFD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DD5C-3DBF-4CAE-865E-52E1D43C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AD99-8A1C-4F7C-9185-3C548E5C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57EA-B7FA-493D-A082-13067161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79D3-54A7-4BA3-868C-D801A7B8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4E43-82C2-44EA-AEDA-E2A44CE6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21D89-12E4-420C-A908-774405D3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445DC-E5F6-4A96-869E-2D8C8F58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87D59-807C-4992-8AC5-F735AFE9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77C74-5033-4C73-83A4-EF940651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97B35-8CAF-403E-95ED-7A3A6C04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B07-59A2-4164-B7A5-A0C1921B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9AB74-9B93-4538-B994-DC011899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06B75-C0B9-407F-B04F-E56FFE72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43458-7478-47C1-8587-B658396D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89B39-AA9A-4CA6-BE54-B42FF177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1BB4D-7163-4B93-945E-F27609B5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936FE-A81A-47F8-AD6D-71E5C41B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5DBAD-A770-4A51-8E86-FF3AB59B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6A69-E823-4D18-A205-3027F9E6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0F0-85AA-4D57-9C41-9AF442EA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B59F-5CC2-4672-9D15-E14903D1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A3A7-FD96-40F4-971D-5BECC148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557C-EF01-48E5-80B2-BC6D9836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CD1-59C0-45AC-984D-E74C5815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E1F8-75D8-4203-99FF-5FF39B38FD0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9E30-2A8C-4214-9526-E525BCFCF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66FE-AFDC-458C-BCFD-D31576FAB33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66"/>
                </a:solidFill>
                <a:latin typeface="Arial"/>
              </a:rPr>
              <a:t>ХРАНЉИВЕ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6666"/>
                </a:solidFill>
                <a:latin typeface="Arial"/>
              </a:rPr>
              <a:t>МАТЕРИЈЕ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1" lang="sr-CS" sz="3200" spc="-1" strike="noStrike">
                <a:solidFill>
                  <a:srgbClr val="006666"/>
                </a:solidFill>
                <a:latin typeface="Arial"/>
              </a:rPr>
              <a:t>МИНЕРАЛИ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6666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6666"/>
                </a:solidFill>
                <a:latin typeface="Arial"/>
              </a:rPr>
              <a:t>ОЛИГОЕЛЕМЕНТ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925"/>
          <p:cNvGraphicFramePr/>
          <p:nvPr/>
        </p:nvGraphicFramePr>
        <p:xfrm>
          <a:off x="1295280" y="0"/>
          <a:ext cx="68900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9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0"/>
                    <a:ext cx="68900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Фосфор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сфо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л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јзаступљениј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нера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чи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1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уп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-90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сфо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ст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уб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оста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к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кив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сфо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тинуира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мењ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међ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ељ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а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рој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з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изм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ључујућ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нача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паратхормо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ич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лизанц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сфо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опств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начај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ич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лог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јважн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ич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лог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сфо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псорпсциј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лукоз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лицерол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рев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убрез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анспорт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них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иселин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тав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сфолипид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етском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изм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чествуј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рмирањ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ом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огатих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ињењ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денозин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ифосфат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реатинфосфат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ржавањ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цидо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азн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внотеж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сфатн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уфер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Дневни</a:t>
            </a:r>
            <a:r>
              <a:rPr b="0" lang="fr-FR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нос</a:t>
            </a:r>
            <a:r>
              <a:rPr b="0" lang="fr-FR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фосфор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ично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зивао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нос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1.5:1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рист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1:1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ц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н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актацији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сфором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носе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оворођенча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6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сец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– 100mg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сец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од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- 275mg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ц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1-10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од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– 500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800mg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1-25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од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– 1250mg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рас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– 700mg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актациј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– 1200m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лав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во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ле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леч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извод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ог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начај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сфо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4"/>
          <p:cNvGraphicFramePr/>
          <p:nvPr/>
        </p:nvGraphicFramePr>
        <p:xfrm>
          <a:off x="1523880" y="0"/>
          <a:ext cx="6407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407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Натрију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трију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лав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тјо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кстрацелулар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120 m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тр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расл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об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в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ећ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лобод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онизова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лик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остал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ећ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тр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став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органск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л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келе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начајн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лог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тр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ормо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алдостеро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тич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псорпрпци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тр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ре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убрег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кре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лез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трију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ли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ро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узет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начај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лог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међ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тал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честв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тро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ржавањ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прем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кстрацелулар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м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центраци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тр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зроку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м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преми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ржавањ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цид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аз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внотеж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јед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лоридн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карбонатн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он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анспорт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лукоз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минокисел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ро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ћелијск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мбран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ре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убре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ржавањ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ормал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дражљив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мбра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шић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ра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тро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рв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тис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дневн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нос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натр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и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финиса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ндард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р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18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од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уд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500-2400mg. 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Чињениц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обичаје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хра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ћ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држа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звоље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а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јвећ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бле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врем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хра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еб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рађе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л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ав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хра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олесни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рдиоваскуларн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ољењ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Храном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натријум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нос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облику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кухињск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сол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(NaCl),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ал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саставн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део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основих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3366"/>
                </a:solidFill>
                <a:latin typeface="Arial"/>
              </a:rPr>
              <a:t>намирниц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4"/>
          <p:cNvGraphicFramePr/>
          <p:nvPr/>
        </p:nvGraphicFramePr>
        <p:xfrm>
          <a:off x="1295280" y="0"/>
          <a:ext cx="67978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0"/>
                    <a:ext cx="6797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Калију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ијум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лавн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тјон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нтрацелуларн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270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g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тријум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лико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расл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соб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тприлик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воструко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иш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тријум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јвећ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о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утар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ћелиј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пак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на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њ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о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купн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личин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ијум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ан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ћелиј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узетно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начајан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ормалн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ункциј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рав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шић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ебно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рц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ормон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алдостерон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начајн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лог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таболизм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ијум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изиолошк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лог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ијум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начајн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р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чествуј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трол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ржавањ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нос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међ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премин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кстрацелуларн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нтрацелуларн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једно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тријумом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)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ржавањ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цидо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азн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внотеж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једно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тријумом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водониковим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оним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таболизм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лукоз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(0.36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mol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ијум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требно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кладиштењ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1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ликоген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ржавањ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ормалн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дражљивост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мбран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шић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рав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једно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тријумом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цијумом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интез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трол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рв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итис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шир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рв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удов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мању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слобађе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ен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з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нажа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тица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рв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итиса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дневн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нос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кал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акођ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и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финиса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ндард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пору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рећ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2000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лиз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6000 m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обичаје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хра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држ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2000-4000 m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опхода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став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в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ив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ћели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ију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сута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в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мирница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об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рист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с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оћ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рћ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е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е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у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иш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ним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4"/>
          <p:cNvGraphicFramePr/>
          <p:nvPr/>
        </p:nvGraphicFramePr>
        <p:xfrm>
          <a:off x="1371600" y="0"/>
          <a:ext cx="67690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0"/>
                    <a:ext cx="6769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Минерали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деф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.)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представљају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неорганске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елементе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широко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распрострањене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природи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имају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виталне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улоге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људском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метаболизму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Иако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свом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значају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бројним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метаболичким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функцијам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дост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слични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витаминим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разлику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минерали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нису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сложен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органск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једињењ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већ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налазе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елементарном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облику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аспект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исхране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ов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разлик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веом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значајн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јер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минерали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разлику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разграђују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отпорни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дејство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температуре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утицај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ваздух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Магнезију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гнезију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в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ћелија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расл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об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уп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25 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гнез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70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гнез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став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шта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јед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цијум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сфор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остал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30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гнез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споређе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кив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чност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д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зличит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ич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лог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Магнезијум</a:t>
            </a: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делује</a:t>
            </a: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ензимски</a:t>
            </a: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активатор</a:t>
            </a: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продукцију</a:t>
            </a: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синтезу</a:t>
            </a: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Дневне</a:t>
            </a:r>
            <a:r>
              <a:rPr b="0" lang="de-DE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потребе</a:t>
            </a:r>
            <a:r>
              <a:rPr b="0" lang="de-DE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за</a:t>
            </a:r>
            <a:r>
              <a:rPr b="0" lang="de-DE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носом</a:t>
            </a:r>
            <a:r>
              <a:rPr b="0" lang="de-DE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магнезијум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Д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ндардим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нос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42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g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ушкарц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32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g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н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фицијенциј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гнезијум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тк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рећ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р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ормалн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убрежн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ункциј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могућав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ржавањ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зиолошких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центрациј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пак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достатак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гнезијум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ављ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честог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крењ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мер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шећерн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олест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к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мањењ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убрежн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ункци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убрежн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нсуфицијенциј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г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авит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нац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нтоксикаци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гнезијумом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гнезијум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ликом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рој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мирниц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хран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гнезијум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м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ст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љном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еленом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игмент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лорофил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, 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њим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ебн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огат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елен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рћ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4"/>
          <p:cNvGraphicFramePr/>
          <p:nvPr/>
        </p:nvGraphicFramePr>
        <p:xfrm>
          <a:off x="1219320" y="0"/>
          <a:ext cx="6997680" cy="68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0"/>
                    <a:ext cx="6997680" cy="68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Хлор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ло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става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3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уп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нерал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ста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лик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лорид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о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лорид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о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јвећ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л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став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кстрацелулар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д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честву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тро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прем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ржавањ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цид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аз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внотеж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начаја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лори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крет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игестив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ак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еб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лудач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ок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HCl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Дневн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потреб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з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носом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хлори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ви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рос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б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но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500 m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оворођенчад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1000-2000 m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ц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2000 m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расл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нимал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750mg)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лорид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в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ста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мирниц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оћ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рћ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с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Сумпор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мпо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в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ћелија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ич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став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ћелијск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ог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с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мпо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тој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став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минокисел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истеи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иони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ликопроте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скавиц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шта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трик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ерат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с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окт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епар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нсул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от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иам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енз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…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леметар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мпо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мирница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јед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тријум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ијум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гнезијум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Дневн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потреб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з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сумпор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довољава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деквтан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држ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вољ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те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с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ле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а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и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Гвожђ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вожђ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4-5g (40-50mg/k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иш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лов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уп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вожђ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70%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став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хемоглоб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ута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рве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рв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рнац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5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став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миоглоб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шић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20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складиште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лик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феритина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иша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вожђ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кладиш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хемосидери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остал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5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вожђ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споређе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в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ћелија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д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лавн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мпонент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оксидативних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енз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опход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вар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вожђ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за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анспорт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теи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800" spc="-1" strike="noStrike">
                <a:solidFill>
                  <a:srgbClr val="003366"/>
                </a:solidFill>
                <a:latin typeface="Arial"/>
              </a:rPr>
              <a:t>трансфери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изиолош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лог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вожђ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начај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међ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тал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честв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транспорту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кисеоник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плућ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свих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ћелиј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енергетском</a:t>
            </a: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метаболизму</a:t>
            </a: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хранљивих</a:t>
            </a: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фази</a:t>
            </a: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стварања</a:t>
            </a: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лих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вожђ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нос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1000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ушкарац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300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н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убитак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вожђ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1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ушкарац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1.5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н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след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нструалног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убитк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7" name="Picture 7" descr="F-32-7a"/>
          <p:cNvPicPr/>
          <p:nvPr/>
        </p:nvPicPr>
        <p:blipFill>
          <a:blip r:embed="rId1"/>
          <a:stretch/>
        </p:blipFill>
        <p:spPr>
          <a:xfrm>
            <a:off x="5245200" y="4300560"/>
            <a:ext cx="3898800" cy="2484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F-32-6"/>
          <p:cNvPicPr/>
          <p:nvPr/>
        </p:nvPicPr>
        <p:blipFill>
          <a:blip r:embed="rId2"/>
          <a:stretch/>
        </p:blipFill>
        <p:spPr>
          <a:xfrm>
            <a:off x="5257800" y="1828800"/>
            <a:ext cx="3352680" cy="2532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Krvne celije"/>
          <p:cNvPicPr/>
          <p:nvPr/>
        </p:nvPicPr>
        <p:blipFill>
          <a:blip r:embed="rId3"/>
          <a:stretch/>
        </p:blipFill>
        <p:spPr>
          <a:xfrm>
            <a:off x="228600" y="182880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92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1925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192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192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Дневне</a:t>
            </a:r>
            <a:r>
              <a:rPr b="0" lang="de-DE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потребе</a:t>
            </a:r>
            <a:r>
              <a:rPr b="0" lang="de-DE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за</a:t>
            </a:r>
            <a:r>
              <a:rPr b="0" lang="de-DE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носом</a:t>
            </a:r>
            <a:r>
              <a:rPr b="0" lang="de-DE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гвожђ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м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Д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ндардим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носе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оворођенча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6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сец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- 6 mg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сец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од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- 10 mg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ц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1-10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од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- 10 mg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1-18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од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ушкарц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- 10-12 mg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1-18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од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- 15 mg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рас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ушкарц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- 8 mg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рас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- 18 mg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50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од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- 10 mg)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- 27 m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актациј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- 15 m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вегетеријанску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исхрану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двострук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већи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дневни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због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мање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ресорпције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гвожђ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намирниц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биљног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порекл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фицијенци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вожђ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ста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мање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мањ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псорпц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ћа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убит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последиц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недостатк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гвожђ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настаје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малокрвност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анемиј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најчешће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хипохромн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анемиј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вожђ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лик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ро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мирниц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хран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ндард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хра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езбеђ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деквата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вожђ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Object 4"/>
          <p:cNvGraphicFramePr/>
          <p:nvPr/>
        </p:nvGraphicFramePr>
        <p:xfrm>
          <a:off x="1219320" y="0"/>
          <a:ext cx="682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0"/>
                    <a:ext cx="682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6055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3366"/>
                </a:solidFill>
                <a:uFillTx/>
                <a:latin typeface="Arial"/>
              </a:rPr>
              <a:t>Јо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људском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15-20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g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од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раслих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соб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јвећ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о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купн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личин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од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штитасто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жлезд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шићим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статак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споређен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ругим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докриним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кивим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централном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рвном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истем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ж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келет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пак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м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премин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кив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јвећ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центрациј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од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људском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тој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штитасто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жлезд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центрациј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од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вис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тицај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јединих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ормон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тварај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ипофиз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ипоталамус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SH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RH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Основна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улога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јода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облику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јодида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саставни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део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хормона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штитасте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жлезде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учествује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регулацији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бројних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метаболичких</a:t>
            </a: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функциј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ормон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штитаст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жлезд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вод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брзавањ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ћелијског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таболизм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н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ксидациј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љивих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упстрат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ћелији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што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следицу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азалног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таболизм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MR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Дневне</a:t>
            </a:r>
            <a:r>
              <a:rPr b="0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потребе</a:t>
            </a:r>
            <a:r>
              <a:rPr b="0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за</a:t>
            </a:r>
            <a:r>
              <a:rPr b="0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уносом</a:t>
            </a:r>
            <a:r>
              <a:rPr b="0" lang="de-DE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600" spc="-1" strike="noStrike" u="sng">
                <a:solidFill>
                  <a:srgbClr val="003366"/>
                </a:solidFill>
                <a:uFillTx/>
                <a:latin typeface="Arial"/>
              </a:rPr>
              <a:t>јод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м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Д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тандардима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носе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оворођенча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6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сец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- 40 µg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6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сец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д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оди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- 50 µg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ц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1-10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оди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- 70-120 µg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долесцен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расл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- 150 µg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же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- 220 mg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лактаци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- 290 µg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достата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о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вод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стан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ушав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јчешћ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вор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о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људско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одира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ухињс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1mg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о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10g NaCl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мирниц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рекло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р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Цин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ин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1.5g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2.5g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ушкарц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ин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сута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в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кив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чност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крет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д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неопходну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компоненту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прек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50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ензим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кључних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метаболиза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начај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за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изм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уклеинск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исел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достата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ин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ве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мећа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ункц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л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докри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лез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споре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с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фици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ин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нифест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ро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мећа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чул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у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ри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нос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тежа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раст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Дневн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потреб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з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носом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цин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ндард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но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11 m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ушкарц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8 m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јвећ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вор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ин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мирниц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кл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с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а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ебн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ажњ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рати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нтерферир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псорпц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ин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псорпциј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руг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нерал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вожђ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ака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а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Object 241"/>
          <p:cNvGraphicFramePr/>
          <p:nvPr/>
        </p:nvGraphicFramePr>
        <p:xfrm>
          <a:off x="228600" y="1143000"/>
          <a:ext cx="86868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2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8686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Object 4"/>
          <p:cNvGraphicFramePr/>
          <p:nvPr/>
        </p:nvGraphicFramePr>
        <p:xfrm>
          <a:off x="1371600" y="0"/>
          <a:ext cx="63817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0"/>
                    <a:ext cx="6381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Селе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89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од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ле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ључе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ист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ндар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о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начај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лог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антиоксидан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твар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јед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итами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Дневн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потреб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з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носом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селе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ндард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но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55µg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ле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с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спрострање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мирница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рист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еб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ли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ле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мирница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кл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Бакар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о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лич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из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лог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ака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зи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"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лизанце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вожђ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"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ака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честв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стварању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енергије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синтези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хемоглоб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дневн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0.9mg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ака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сута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лик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ро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мирниц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рист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еб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ли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т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мирница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кл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триг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ас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38080" y="22093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Манга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нга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20mg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глав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тр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ст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анкреа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штитасто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лезд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д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опходн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мпонент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ензимим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кључним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метаболиза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Дневн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потреб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з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носом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манга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ндард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но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2.3m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ушкарц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1.8m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јвећ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вор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нга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мирниц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љ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кл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фици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нга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ав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олел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шећер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оле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оксично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нга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нифест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сихичк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уромишићн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мећај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Хр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њо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6mg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глав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ст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лези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тр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убрез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а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о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ка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дава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ли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нача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тро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центрац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лукоз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овиј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зулта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врд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тица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о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ктивнос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нсул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дневн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25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45µg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јвећ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вор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о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с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т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и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Кобал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бал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о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л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а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глав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складиште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тр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Кобалт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есенцијални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де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B</a:t>
            </a:r>
            <a:r>
              <a:rPr b="1" i="1" lang="en-US" sz="1800" spc="-1" strike="noStrike" baseline="-25000">
                <a:solidFill>
                  <a:srgbClr val="003366"/>
                </a:solidFill>
                <a:latin typeface="Arial"/>
              </a:rPr>
              <a:t>12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п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такав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неопходан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синтезу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еритроци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и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тврђ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а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мирниц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ивотињск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кл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јед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итами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B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Молибде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уп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либде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циз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тврђе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а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о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ве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и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знат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в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лог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либде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тврђе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зимс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факто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честв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ројн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ичк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с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ључујућ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идроксилац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рој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лекул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поруч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дневн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45µg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јвећ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вор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либде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мирниц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љ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кл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Флуор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луо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кив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ма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исо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држа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Основн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улог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флуор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стабилизацији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калцијумск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фосфатних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кристал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костим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поготов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зубим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улог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спречавању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настанк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каријес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r-CS" sz="1800" spc="-1" strike="noStrike">
                <a:solidFill>
                  <a:srgbClr val="003366"/>
                </a:solidFill>
                <a:latin typeface="Arial"/>
              </a:rPr>
              <a:t>зуба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Дневн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потреб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з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носом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флуо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њу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2-3m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ц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3-4mg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расл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луо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езбеђ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луориса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ли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лич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луо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мирница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кл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о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ВО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о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вантитатив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мисл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јвећ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50-55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55-60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ушкарц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чи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о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тата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ч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с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руг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органск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тер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нтуал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чешћ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о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о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ећ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оворођенчад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мањ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рење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јвећ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држа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келетн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шић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ма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њ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шићн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ту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њ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држа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о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честв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финисањ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ли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рмирањ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опход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сло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виј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ичк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акођ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о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могућа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ржава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л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сло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утрашњ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ред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е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чег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иво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и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могућ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ута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о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нов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ељ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ељк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нтрацелулар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о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ута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ћели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чи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40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уп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м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вија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нов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таболичк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с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дељк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екстрацелулар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чин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20%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куп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телес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ас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дељен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еђућелијск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течност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течност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ј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кружуј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ћелиј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),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рвн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лазм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течн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е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),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течност</a:t>
            </a:r>
            <a:r>
              <a:rPr b="0" lang="de-DE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ја</a:t>
            </a:r>
            <a:r>
              <a:rPr b="0" lang="de-DE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de-DE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de-DE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de-DE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екретима</a:t>
            </a:r>
            <a:r>
              <a:rPr b="0" lang="de-DE" sz="17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Људск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рганизам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2.5-3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л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з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државањ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нстант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равнотеж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змеђ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нос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елиминисањ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Вод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нев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треб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безбеђуј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носом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блик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ј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астај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ток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етаболичких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роцес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етаболичк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бод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Губитак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двиј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рек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бубрег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окраћ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црев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толиц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ж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зној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ифузиј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лућ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исањ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Вод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људском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ложен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воден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раствор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еорганских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инерал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рганских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елеменат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ротеин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аминокисели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глукоз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ре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…),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р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чем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стој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уштинск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разлик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нцентрациј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менутих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елеменат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јед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друг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тра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ћелијск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ембра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стој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ложен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еханизм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могућавај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државањ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нстантних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нцентрациј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елеменат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различитих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стран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ћелијских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ембран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себн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еханизм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могућавај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размен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змеђ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екстрацелулар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нтрацелуларн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еким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механизмим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тич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баланс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воде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учествују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једин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хормон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попут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700" spc="-1" strike="noStrike">
                <a:solidFill>
                  <a:srgbClr val="003366"/>
                </a:solidFill>
                <a:latin typeface="Arial"/>
              </a:rPr>
              <a:t>алдостерон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700" spc="-1" strike="noStrike">
                <a:solidFill>
                  <a:srgbClr val="003366"/>
                </a:solidFill>
                <a:latin typeface="Arial"/>
              </a:rPr>
              <a:t>антидиурезног</a:t>
            </a:r>
            <a:r>
              <a:rPr b="0" i="1" lang="en-U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700" spc="-1" strike="noStrike">
                <a:solidFill>
                  <a:srgbClr val="003366"/>
                </a:solidFill>
                <a:latin typeface="Arial"/>
              </a:rPr>
              <a:t>хормона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i="1" lang="sr-CS" sz="1700" spc="-1" strike="noStrike">
                <a:solidFill>
                  <a:srgbClr val="003366"/>
                </a:solidFill>
                <a:latin typeface="Arial"/>
              </a:rPr>
              <a:t>АДХ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457200" y="990720"/>
          <a:ext cx="8153280" cy="4419360"/>
        </p:xfrm>
        <a:graphic>
          <a:graphicData uri="http://schemas.openxmlformats.org/drawingml/2006/table">
            <a:tbl>
              <a:tblPr/>
              <a:tblGrid>
                <a:gridCol w="2133720"/>
                <a:gridCol w="1125360"/>
                <a:gridCol w="1590840"/>
                <a:gridCol w="1527120"/>
                <a:gridCol w="1776240"/>
              </a:tblGrid>
              <a:tr h="419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sečni dnevni unos i gubitak vode odrasle osob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os (ml/dan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bitak (ml/dan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8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avezni (neprimetni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datni (neobavezni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čnos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-15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ć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a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-1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3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ž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3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fuzij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3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oj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bolička voda (oksidacija hranljivih materija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-3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brezi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lic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upn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0-28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upn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sečn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sečn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УЛОГЕ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3366"/>
                </a:solidFill>
                <a:latin typeface="Arial"/>
              </a:rPr>
              <a:t>МИНЕРАЛ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нера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ма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лог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радив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гулатор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пстанц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Као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градивн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матерјал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минерал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чествују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формирању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шта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цију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сфо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к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шић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рв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лезда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кив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-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в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о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готов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сфо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мпо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ло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октиј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ж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сфо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в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о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готов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вожђ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емоглобин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ака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ритроцит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лезда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кре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лорид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лудач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ок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ормон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штитаст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лезд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трију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рев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ок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нга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лезда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утрашњ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учење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ин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ензим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Као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регулаторн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супстанц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,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минерал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чествују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контрол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итис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в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о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готов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тр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нтракц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лаксац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ишић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цију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ију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трију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сфо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ло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ервн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гово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в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о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себн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начајн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нос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трију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агулац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цију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сигенац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вожђ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о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цид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аз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внотеж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исел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ло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умпо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фосфа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аз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омпонен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цију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трију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ију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гнезију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3366"/>
                </a:solidFill>
                <a:uFillTx/>
                <a:latin typeface="Arial"/>
              </a:rPr>
              <a:t>Калцију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цију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блик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ол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цијумфосфа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лав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нерал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астоја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људск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јвећ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99%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ст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уб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а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чврстин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еостал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1%)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лаз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руги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лесни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чност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ки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кив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700mg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нев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ме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међ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сти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лес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цију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честву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агулаци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рвно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ансмиси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тракци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елаксаци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шић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ктиваци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енз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трол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рвно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итис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јед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руги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нерал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цију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честву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егулациј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ранспор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атер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ро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ћелијск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мбран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ормалн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псорпци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ришћењ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хран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опхода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витамин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D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начајн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лог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етаболизм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паратхормо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већа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апсорпци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цре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сти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3366"/>
                </a:solidFill>
                <a:latin typeface="Arial"/>
              </a:rPr>
              <a:t>калцитони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мању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нцентраци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мање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рганизм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спорав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сти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зво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уб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устављ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с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едостата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вес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зво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ахити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ц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стеомалациј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стеопороз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драсл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ормира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анк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ломљив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остиј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озбиљни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ремећа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роцес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грушавањ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рв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станк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тетан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бол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пастичн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грчев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ишић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Picture 8" descr="79-6"/>
          <p:cNvPicPr/>
          <p:nvPr/>
        </p:nvPicPr>
        <p:blipFill>
          <a:blip r:embed="rId1"/>
          <a:stretch/>
        </p:blipFill>
        <p:spPr>
          <a:xfrm>
            <a:off x="990720" y="2362320"/>
            <a:ext cx="3776400" cy="4344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79-5"/>
          <p:cNvPicPr/>
          <p:nvPr/>
        </p:nvPicPr>
        <p:blipFill>
          <a:blip r:embed="rId2"/>
          <a:stretch/>
        </p:blipFill>
        <p:spPr>
          <a:xfrm>
            <a:off x="5091120" y="2955960"/>
            <a:ext cx="40528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Picture 6" descr="79-1"/>
          <p:cNvPicPr/>
          <p:nvPr/>
        </p:nvPicPr>
        <p:blipFill>
          <a:blip r:embed="rId1"/>
          <a:stretch/>
        </p:blipFill>
        <p:spPr>
          <a:xfrm>
            <a:off x="228600" y="1905120"/>
            <a:ext cx="4311720" cy="4952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79-10"/>
          <p:cNvPicPr/>
          <p:nvPr/>
        </p:nvPicPr>
        <p:blipFill>
          <a:blip r:embed="rId2"/>
          <a:stretch/>
        </p:blipFill>
        <p:spPr>
          <a:xfrm>
            <a:off x="4495680" y="1905120"/>
            <a:ext cx="4672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NICAL NUTR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1337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Днев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ne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потреб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e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з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унос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o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м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3366"/>
                </a:solidFill>
                <a:uFillTx/>
                <a:latin typeface="Arial"/>
              </a:rPr>
              <a:t>калц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и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ивот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б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руг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лазећ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це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рганиза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сорбу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 40%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храно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ето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мат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нев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e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тре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нос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ов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ођенча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d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6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– 400mg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оди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- 600mg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ц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1-10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од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- 800mg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1-25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од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- 1300mg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рас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- 1000mg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же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удноћ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ак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ци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 - 1200m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ари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50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од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– 1200m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лав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во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ц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људско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схра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стављ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ле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лечн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оизвод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ог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ле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а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лавн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звор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еланчев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итам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D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ибофлави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л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агнезију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т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ажа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лек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мен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лек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ча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естриктивни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словим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ијет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49:58Z</dcterms:created>
  <dc:creator>!</dc:creator>
  <dc:description/>
  <dc:language>en-US</dc:language>
  <cp:lastModifiedBy>XP</cp:lastModifiedBy>
  <dcterms:modified xsi:type="dcterms:W3CDTF">2014-02-07T15:52:46Z</dcterms:modified>
  <cp:revision>16</cp:revision>
  <dc:subject/>
  <dc:title>CLINICAL NUTRITION</dc:title>
</cp:coreProperties>
</file>